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13.png" ContentType="image/png"/>
  <Override PartName="/ppt/media/image8.png" ContentType="image/png"/>
  <Override PartName="/ppt/media/image5.gif" ContentType="image/gif"/>
  <Override PartName="/ppt/media/image7.gif" ContentType="image/gif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4000-5329-4D75-A1DB-BD523D9399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3DB5CC2-6605-4AC8-9B2D-88C381626E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85EB2B0-4D48-4A0A-9B96-8264A416EB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5D31DD2-42CC-40C8-A640-9536EC8259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0477EE6-0783-4622-9F36-50084542AB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608EAF4-AD61-4C4B-B587-6E1D18B47C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914EB5B-618F-40E3-99FE-222FC2E162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931326-36FE-4F3A-9860-425317926E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98B0A7A-C169-428F-B254-827AE2E6DE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60B0-D45B-42CB-86CB-815A60AE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9EA8-501B-4E38-8B07-51B339C6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D3A3-F40D-4775-8DC7-195995FBE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901C-CF17-4F62-A5B6-9BDB4671E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7FE4-E050-48C5-B4A4-76D0382A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C0F4-FBE5-4C47-BA11-EEDB8EFA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8CE6-5C5A-4082-88B4-D99717F5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0FFE-6C15-444B-87FE-7266AE73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6408-E662-40FB-8D82-847206F4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7658-14FF-4349-A8CD-22CB1143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32AC-AC90-4ACE-9A48-BEA73794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9569-602B-410B-9387-EE7C7AF0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B732-BF09-45F8-956B-3062104A71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alibri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320" y="3352320"/>
            <a:ext cx="7086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University of Bridg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D611-77B1-4E2F-B177-056711DC0FD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14400" y="304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Introduction to ROBOTIC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-DOF J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Universal 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mbol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F329-E9B1-42BC-9266-589431CBF2A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666880" y="3095640"/>
            <a:ext cx="3810240" cy="27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-DOF J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ylindrical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mbol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4665-BC68-4C63-BC73-D7C80465700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untitled"/>
          <p:cNvPicPr/>
          <p:nvPr/>
        </p:nvPicPr>
        <p:blipFill>
          <a:blip r:embed="rId1"/>
          <a:stretch/>
        </p:blipFill>
        <p:spPr>
          <a:xfrm>
            <a:off x="2666880" y="2514600"/>
            <a:ext cx="245772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DOF J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ll-and-socket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herical jo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mbol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F4F9-7634-44EE-ABE9-F4E4B2A0045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sper"/>
          <p:cNvPicPr/>
          <p:nvPr/>
        </p:nvPicPr>
        <p:blipFill>
          <a:blip r:embed="rId2"/>
          <a:stretch/>
        </p:blipFill>
        <p:spPr>
          <a:xfrm>
            <a:off x="4876920" y="2743200"/>
            <a:ext cx="32652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ipul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CB08-C510-4D88-AB8D-8CDAC6228A9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28" descr="manipulator-articulateed"/>
          <p:cNvPicPr/>
          <p:nvPr/>
        </p:nvPicPr>
        <p:blipFill>
          <a:blip r:embed="rId1"/>
          <a:stretch/>
        </p:blipFill>
        <p:spPr>
          <a:xfrm>
            <a:off x="838080" y="4114800"/>
            <a:ext cx="2133720" cy="1765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30" descr="manipulator-cartesian"/>
          <p:cNvPicPr/>
          <p:nvPr/>
        </p:nvPicPr>
        <p:blipFill>
          <a:blip r:embed="rId2"/>
          <a:stretch/>
        </p:blipFill>
        <p:spPr>
          <a:xfrm>
            <a:off x="838080" y="1523880"/>
            <a:ext cx="2028960" cy="1959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31" descr="manipulator-cylindrical"/>
          <p:cNvPicPr/>
          <p:nvPr/>
        </p:nvPicPr>
        <p:blipFill>
          <a:blip r:embed="rId3"/>
          <a:stretch/>
        </p:blipFill>
        <p:spPr>
          <a:xfrm>
            <a:off x="3352680" y="1523880"/>
            <a:ext cx="2286000" cy="1820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32" descr="manipulator-spherical"/>
          <p:cNvPicPr/>
          <p:nvPr/>
        </p:nvPicPr>
        <p:blipFill>
          <a:blip r:embed="rId4"/>
          <a:stretch/>
        </p:blipFill>
        <p:spPr>
          <a:xfrm>
            <a:off x="6172200" y="1295280"/>
            <a:ext cx="2057400" cy="2005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33" descr="manipulator-SCARA"/>
          <p:cNvPicPr/>
          <p:nvPr/>
        </p:nvPicPr>
        <p:blipFill>
          <a:blip r:embed="rId5"/>
          <a:stretch/>
        </p:blipFill>
        <p:spPr>
          <a:xfrm>
            <a:off x="3200400" y="3886200"/>
            <a:ext cx="2438280" cy="16905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34"/>
          <p:cNvSpPr/>
          <p:nvPr/>
        </p:nvSpPr>
        <p:spPr>
          <a:xfrm>
            <a:off x="838080" y="3429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tesian: P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35"/>
          <p:cNvSpPr/>
          <p:nvPr/>
        </p:nvSpPr>
        <p:spPr>
          <a:xfrm>
            <a:off x="3581280" y="34290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ylindrical: R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36"/>
          <p:cNvSpPr/>
          <p:nvPr/>
        </p:nvSpPr>
        <p:spPr>
          <a:xfrm>
            <a:off x="6248520" y="3429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herical: R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37"/>
          <p:cNvSpPr/>
          <p:nvPr/>
        </p:nvSpPr>
        <p:spPr>
          <a:xfrm>
            <a:off x="3200400" y="5638680"/>
            <a:ext cx="236232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Selective Compliance Assembly Robot Ar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38"/>
          <p:cNvSpPr/>
          <p:nvPr/>
        </p:nvSpPr>
        <p:spPr>
          <a:xfrm>
            <a:off x="762120" y="5943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ticulated: R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39" descr="manipulator-tool"/>
          <p:cNvPicPr/>
          <p:nvPr/>
        </p:nvPicPr>
        <p:blipFill>
          <a:blip r:embed="rId6"/>
          <a:stretch/>
        </p:blipFill>
        <p:spPr>
          <a:xfrm>
            <a:off x="6324480" y="3962520"/>
            <a:ext cx="1828800" cy="12826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040"/>
          <p:cNvSpPr/>
          <p:nvPr/>
        </p:nvSpPr>
        <p:spPr>
          <a:xfrm>
            <a:off x="5791320" y="5181480"/>
            <a:ext cx="373356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nd coordin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normal vector;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sliding vecto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approach vector, normal to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ol mounting 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configur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the manipulator is a complete specification of the location of every point on the manipula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you know the values for th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joint variable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(joint angle for revolute joints or joint offset for prismatic joints), it is straightforward to infer the position of any point on the manipula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A configuration is represented by a set of values for the joint variabl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object is said to have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grees of freedom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(DOF)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its configuration can be minimally specified by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 paramet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robot manipulator, the number of joints determine the number of DOF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reach any point in the space with an arbitrary orientation: 6 DOF (3 DOF f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sition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3 DOF f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rient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 than 6 DOF: the arm cant reach any point in the space with an arbitrary orien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than 6 DOF: Kinematically redundant manipulato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rtain applications may require more than 6 DOF, for 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tacle Avoid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sp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orkspace of the manipulator is the total volume swept out by the end effector as the manipulator executes all possible mo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space is constrain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ometry of the manipula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chanical constraint of the joints (a revolute joint may be limited to less than 360 degre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video.avi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369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6504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sp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achable Workspace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entire set of points reachable by th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ipula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extrous Workspace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sists of those points that th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ipulator can reach with an arbitrary orientation of the end effec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extrous Workspac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s a subset of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achable Workspa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B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rk W. Spong, Seth Hutchins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d M. Vidyasagar, 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bot Mo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d Control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” 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ley , 200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SBN-10: 047164990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SBN-13: 978-0471649908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095880" y="1676520"/>
            <a:ext cx="27511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formance Mea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curac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is a measure of how close the manipulator can come to a given point within its worksp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peat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is a measure of how close the manipulator can return to a previously taught poi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st and End Effe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st: the joints between the arm and the end effec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ically, the arm controls the position of the end effector, and the wrist controls the orientat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 DOF wr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ypical wrist would have 3 DOF described as roll, pitch and yaw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oll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tation around the arm axi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itch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 and down movement (assuming the roll is in its centre position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aw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ght to left rotation (assuming the roll is in its centre posi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wrist.jpg"/>
          <p:cNvPicPr/>
          <p:nvPr/>
        </p:nvPicPr>
        <p:blipFill>
          <a:blip r:embed="rId1"/>
          <a:stretch/>
        </p:blipFill>
        <p:spPr>
          <a:xfrm>
            <a:off x="3200400" y="4114800"/>
            <a:ext cx="50007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d Effe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evice on the end of the arm, attached via the wrist, that performs the task, such 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ippers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o hold and move obje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ols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perform work on a part, not just to pick it up. A tool could be held by a gripper, making the system more flexib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D:\Documents and Settings\Ayssam\Desktop\gripper-t.gif"/>
          <p:cNvPicPr/>
          <p:nvPr/>
        </p:nvPicPr>
        <p:blipFill>
          <a:blip r:embed="rId1"/>
          <a:stretch/>
        </p:blipFill>
        <p:spPr>
          <a:xfrm>
            <a:off x="4038480" y="4762440"/>
            <a:ext cx="38102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b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. Craig, Introduction to Robotics: Mechanics and Control,” 2nd edition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ISBN: 0-201-52539-9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s Cove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form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inema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verse kinema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Jacobi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rajectory gen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obot 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Calibri"/>
              </a:rPr>
              <a:t>Robot</a:t>
            </a:r>
            <a:r>
              <a:rPr b="0" lang="en-CA" sz="3600" spc="-1" strike="noStrike">
                <a:solidFill>
                  <a:srgbClr val="000000"/>
                </a:solidFill>
                <a:latin typeface="Calibri"/>
              </a:rPr>
              <a:t> –A reprogrammable manipulator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to perform specific mechanical functions such as move material and par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Calibri"/>
              </a:rPr>
              <a:t>Robotics</a:t>
            </a:r>
            <a:r>
              <a:rPr b="0" lang="en-CA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science dealing with design, construction and operation of rob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ipul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bot manipulators are composed o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k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nected by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joi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1400"/>
          <p:cNvPicPr/>
          <p:nvPr/>
        </p:nvPicPr>
        <p:blipFill>
          <a:blip r:embed="rId1"/>
          <a:stretch/>
        </p:blipFill>
        <p:spPr>
          <a:xfrm>
            <a:off x="990720" y="2895480"/>
            <a:ext cx="2396880" cy="3429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photo"/>
          <p:cNvPicPr/>
          <p:nvPr/>
        </p:nvPicPr>
        <p:blipFill>
          <a:blip r:embed="rId2"/>
          <a:stretch/>
        </p:blipFill>
        <p:spPr>
          <a:xfrm>
            <a:off x="4419720" y="2819520"/>
            <a:ext cx="411480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joint is the connection between two or more links at their nod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onstrains the motions of the connected lin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joint can be classified a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e-DO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-DO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e-DO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4B6B-A076-4D9F-AF39-B542F2C2B25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-DOF J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Revolut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j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oses a rotational mo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mbol 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B027-F754-4A30-A8F6-F745543381A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371600" y="2971800"/>
            <a:ext cx="4457880" cy="2724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Prismatic Joint"/>
          <p:cNvPicPr/>
          <p:nvPr/>
        </p:nvPicPr>
        <p:blipFill>
          <a:blip r:embed="rId2"/>
          <a:stretch/>
        </p:blipFill>
        <p:spPr>
          <a:xfrm>
            <a:off x="6019920" y="312408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-DOF J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rismatic 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oses a translational mo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mbol: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C6D0-BD7F-45C1-971B-AE11834267A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2176560" cy="2392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Prismatic Joint"/>
          <p:cNvPicPr/>
          <p:nvPr/>
        </p:nvPicPr>
        <p:blipFill>
          <a:blip r:embed="rId2"/>
          <a:stretch/>
        </p:blipFill>
        <p:spPr>
          <a:xfrm rot="16200000">
            <a:off x="5324400" y="2828880"/>
            <a:ext cx="2286000" cy="2914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yssam</cp:lastModifiedBy>
  <dcterms:modified xsi:type="dcterms:W3CDTF">2009-09-03T03:16:23Z</dcterms:modified>
  <cp:revision>62</cp:revision>
  <dc:subject/>
  <dc:title>Slide 1</dc:title>
</cp:coreProperties>
</file>